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7.jpeg" ContentType="image/jpeg"/>
  <Override PartName="/ppt/media/image5.wmf" ContentType="image/x-wmf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317-99E9-4482-852A-CAC010A6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FD4-81AB-46AF-974B-A6FFA96A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EF0-6AAE-4062-BFE9-5CB0F2A2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91A-844C-4489-B6C0-8204B8D7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6C2-F354-40FF-9F41-D299B6FE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365-BC8F-4707-88BA-CEE4EDDF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48E-1F0C-4C88-93F9-75FA2C18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0B8-15F3-4979-938A-BED28348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D662-D851-48C7-9E02-825EEF4C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56D-89DC-41BB-9A0F-9154C70E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DCB-15DB-4C59-9896-9A003A12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EED-71AB-44AC-A367-FA8E9265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AAF06-F3E4-41AE-B51A-E005C33C39B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152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9600" spc="-1" strike="noStrike" u="sng">
                <a:solidFill>
                  <a:srgbClr val="fb5b0b"/>
                </a:solidFill>
                <a:uFillTx/>
                <a:latin typeface="Comic Sans MS"/>
              </a:rPr>
              <a:t>Vznik  Země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cs-CZ" sz="2400" spc="-1" strike="noStrike" u="sng">
                <a:solidFill>
                  <a:srgbClr val="000000"/>
                </a:solidFill>
                <a:uFillTx/>
                <a:latin typeface="Comic Sans MS"/>
              </a:rPr>
              <a:t>vypracovali: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</a:rPr>
              <a:t>Tomáš Novotný, Tomáš Polák, Michaela Polanská, Kristýna Vaš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700360" y="185760"/>
            <a:ext cx="306072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d 200 mil. l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8099640" cy="52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00360" y="615960"/>
            <a:ext cx="30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d 150 mil. l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1079640"/>
            <a:ext cx="8640720" cy="540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700360" y="360360"/>
            <a:ext cx="377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459640" cy="5219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00360" y="6159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d 100 mil. l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0" y="61596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d 50 mil. l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8099640" cy="540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00360" y="81432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d 10 mil. l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8099640" cy="52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745080" y="814320"/>
            <a:ext cx="1800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čas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20720" y="1260360"/>
            <a:ext cx="7920000" cy="52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0000" y="179280"/>
            <a:ext cx="594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Vznik Země-SOUČASTN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06440" y="816120"/>
            <a:ext cx="5878440" cy="1440"/>
          </a:xfrm>
          <a:prstGeom prst="line">
            <a:avLst/>
          </a:prstGeom>
          <a:ln w="360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5440" y="2122560"/>
            <a:ext cx="163440" cy="163440"/>
          </a:xfrm>
          <a:prstGeom prst="ellipse">
            <a:avLst/>
          </a:prstGeom>
          <a:solidFill>
            <a:srgbClr val="5c8526"/>
          </a:solidFill>
          <a:ln w="360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03480" y="1795320"/>
            <a:ext cx="217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96960" y="979560"/>
            <a:ext cx="50976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emě se pořád vyvíjí a dalo by se říct,že vzniká dá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2320" y="1959120"/>
            <a:ext cx="2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2320" y="2122560"/>
            <a:ext cx="2610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yšuje se hladina oceán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5440" y="2938320"/>
            <a:ext cx="163440" cy="163800"/>
          </a:xfrm>
          <a:prstGeom prst="ellipse">
            <a:avLst/>
          </a:prstGeom>
          <a:solidFill>
            <a:srgbClr val="5c8526"/>
          </a:solidFill>
          <a:ln w="360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2320" y="2938320"/>
            <a:ext cx="2521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čínají být aktivní sop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25440" y="3754440"/>
            <a:ext cx="163440" cy="163440"/>
          </a:xfrm>
          <a:prstGeom prst="ellipse">
            <a:avLst/>
          </a:prstGeom>
          <a:solidFill>
            <a:srgbClr val="5c8526"/>
          </a:solidFill>
          <a:ln w="360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2320" y="4572000"/>
            <a:ext cx="31006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šechny kontinenty se posunuj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5440" y="4572000"/>
            <a:ext cx="163440" cy="163440"/>
          </a:xfrm>
          <a:prstGeom prst="ellipse">
            <a:avLst/>
          </a:prstGeom>
          <a:solidFill>
            <a:srgbClr val="5c8526"/>
          </a:solidFill>
          <a:ln w="360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2320" y="3755880"/>
            <a:ext cx="14749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ění se 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55920" y="3903840"/>
            <a:ext cx="408168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306440"/>
            <a:ext cx="440856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9760" y="5079960"/>
            <a:ext cx="5040000" cy="1614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592440" y="2612880"/>
            <a:ext cx="3429000" cy="1130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74880" y="142920"/>
            <a:ext cx="29178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pa světa-SOUČAST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76680" y="490680"/>
            <a:ext cx="2938320" cy="1440"/>
          </a:xfrm>
          <a:prstGeom prst="line">
            <a:avLst/>
          </a:prstGeom>
          <a:ln w="72000">
            <a:solidFill>
              <a:srgbClr val="aec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88880" y="979560"/>
            <a:ext cx="8501040" cy="5062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00000" y="179280"/>
            <a:ext cx="767556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9600" spc="-1" strike="noStrike">
                <a:solidFill>
                  <a:srgbClr val="000000"/>
                </a:solidFill>
                <a:latin typeface="Times New Roman"/>
              </a:rPr>
              <a:t>DĚKUJEME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79640" y="1866960"/>
            <a:ext cx="1806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600" spc="-1" strike="noStrike">
                <a:solidFill>
                  <a:srgbClr val="000000"/>
                </a:solidFill>
                <a:latin typeface="Times New Roman"/>
              </a:rPr>
              <a:t>Z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82840"/>
            <a:ext cx="864072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9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9600" spc="-1" strike="noStrike">
                <a:solidFill>
                  <a:srgbClr val="000000"/>
                </a:solidFill>
                <a:latin typeface="Times New Roman"/>
              </a:rPr>
              <a:t>VAŠI                 POZORNOS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319640" y="1619280"/>
            <a:ext cx="365760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 u="sng">
                <a:solidFill>
                  <a:srgbClr val="ff3300"/>
                </a:solidFill>
                <a:uFillTx/>
                <a:latin typeface="Impact"/>
              </a:rPr>
              <a:t>Z a č á t e 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obné hmotné částice a plyny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hromného oblaku okolo mladé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 Slunce se pospojovaly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ořily vnitřní kamenn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anety. Díky gravitaci se obj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ěchto těles neustále zvětšo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Impact"/>
              </a:rPr>
              <a:t>Zah</a:t>
            </a:r>
            <a:r>
              <a:rPr b="1" lang="cs-CZ" sz="4400" spc="-1" strike="noStrike" u="sng">
                <a:solidFill>
                  <a:srgbClr val="ff3300"/>
                </a:solidFill>
                <a:uFillTx/>
                <a:latin typeface="Impact"/>
              </a:rPr>
              <a:t>ří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419360" cy="3276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76920" y="1980720"/>
            <a:ext cx="358128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 nárazu s jinou planetou vznikl satelit Země – Měsíc. Nitro planety se neustálými dalšími nárazy a rozpadem radioaktivních prvků zahřívalo. Těžké roztavené prvky klesly ke středu planety (vytvořily jádro), lehčí vystoupily k povrch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 u="sng">
                <a:solidFill>
                  <a:srgbClr val="fb5b0b"/>
                </a:solidFill>
                <a:uFillTx/>
                <a:latin typeface="Impact"/>
              </a:rPr>
              <a:t>V y c h l a d n u t 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105520" cy="3322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66920" y="1981080"/>
            <a:ext cx="2971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mě se zvol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chlazovala, vytvář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 pevná vrstva horn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zemská kůra).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kolních plynů i z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ynů vyvržený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pečnou erupcí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lubin vznikl ko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mě plynn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al – atmosfé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6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 u="sng">
                <a:solidFill>
                  <a:srgbClr val="ff3300"/>
                </a:solidFill>
                <a:uFillTx/>
                <a:latin typeface="Impact"/>
              </a:rPr>
              <a:t>U s t á l e n 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267440" cy="3584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79640" y="197964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razů do Země ubýva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nitřek Země se rozdělil na já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pláštˇ. Vodní pára v atmosféř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denzovala a v podobě deš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padala na planetu: dík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rávné“ teplotě zůstala 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kutém skupenství a vznik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ceány. Prostředí by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praveno pro živ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0360" y="360360"/>
            <a:ext cx="7920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cs-CZ" sz="4400" spc="-1" strike="noStrike" u="sng">
                <a:solidFill>
                  <a:srgbClr val="804c19"/>
                </a:solidFill>
                <a:uFillTx/>
                <a:latin typeface="Times New Roman"/>
              </a:rPr>
              <a:t>Vznik h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hoří vznikají vlivem tektonického pohybu litosférických desek a jejich vzájemnou kolizí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2519280"/>
            <a:ext cx="594036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0360" y="360360"/>
            <a:ext cx="8459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dcff"/>
                </a:solidFill>
                <a:latin typeface="Times New Roman"/>
              </a:rPr>
              <a:t>             </a:t>
            </a:r>
            <a:r>
              <a:rPr b="1" lang="cs-CZ" sz="4400" spc="-1" strike="noStrike" u="sng">
                <a:solidFill>
                  <a:srgbClr val="00dcff"/>
                </a:solidFill>
                <a:uFillTx/>
                <a:latin typeface="Times New Roman"/>
              </a:rPr>
              <a:t>Vznik oceá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si, když se vytvářela Země, tak tu pršelo na Zemi 100 let. 100 let pršelo a vytvářela se mezi tím, fáze kdy to byli jenom kapičky ledu, později déšť bez nějaké soli, a pak se vytvořil klasický déšť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20720" y="2879640"/>
            <a:ext cx="774072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20720" y="539640"/>
            <a:ext cx="77407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 u="sng">
                <a:solidFill>
                  <a:srgbClr val="00ae00"/>
                </a:solidFill>
                <a:uFillTx/>
                <a:latin typeface="Times New Roman"/>
              </a:rPr>
              <a:t>PANG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2960" y="1619280"/>
            <a:ext cx="4667400" cy="4859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00720" y="2519280"/>
            <a:ext cx="28796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ko jeden z prvních kontinentů se utvořil kontinent Pang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00720" y="3600360"/>
            <a:ext cx="3779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ngea měla tvar písmene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00720" y="3959280"/>
            <a:ext cx="34192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ěla obrovskou rozlohu, a proto byla ve vnitrozemí hodně such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4680000" cy="321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19640" y="3484440"/>
            <a:ext cx="4680000" cy="3176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59280" y="539640"/>
            <a:ext cx="41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0360" y="3060720"/>
            <a:ext cx="32400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íky pohybu litosférických desek se během historie Země kontinenty přesouvaly a rozpada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40360" y="360360"/>
            <a:ext cx="377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Zemi tehdy vládli veleještěři, kteří vážili (40-80 tun). Jejich kosterní pozůstatky dodnes nahánějí hrůz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40360" y="1874880"/>
            <a:ext cx="28954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ngea se rozpadla na dvě části Lauresii (sever)a Gondwanu (jih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3960" y="5089680"/>
            <a:ext cx="3505320" cy="1569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17:32:46Z</dcterms:created>
  <dc:creator>host</dc:creator>
  <dc:description/>
  <dc:language>en-US</dc:language>
  <cp:lastModifiedBy>host</cp:lastModifiedBy>
  <dcterms:modified xsi:type="dcterms:W3CDTF">2015-05-04T18:20:49Z</dcterms:modified>
  <cp:revision>11</cp:revision>
  <dc:subject/>
  <dc:title>Vznik  Země        vypracovali: Tomáš Novotný , Tomáš Polák Michaela Polanská , Kristýna Vašková</dc:title>
</cp:coreProperties>
</file>